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44FF-8294-4E7F-844D-607D16AB5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5664-418E-467F-9913-470F8F6D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5597-390F-4D06-AF80-494C3175F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94EA-F862-44FC-AED8-E473DD1BA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0468-45C4-4B7F-98F5-B92D37A7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8370-9962-45C1-B019-7DCFF29D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FA1D-7023-4BCE-98DE-6C005498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B935-84EF-46B4-9254-0CD94560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CC0E-2FA3-48AC-B4E9-F539B611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D116-1478-4379-8027-5E81B693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1328-82FB-4487-9250-60FA31D4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B169-D178-48E6-8ABA-B74DFAB3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B824-AD02-449D-AC94-D8575D3202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58" name="MH_Other_7" descr=""/>
            <p:cNvPicPr/>
            <p:nvPr/>
          </p:nvPicPr>
          <p:blipFill>
            <a:blip r:embed="rId1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2" name="MH_Other_9" descr=""/>
            <p:cNvPicPr/>
            <p:nvPr/>
          </p:nvPicPr>
          <p:blipFill>
            <a:blip r:embed="rId2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MH_Other_11" descr=""/>
          <p:cNvPicPr/>
          <p:nvPr/>
        </p:nvPicPr>
        <p:blipFill>
          <a:blip r:embed="rId3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372120" y="2951640"/>
            <a:ext cx="212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21.4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一次函数的应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二十一章 一次函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2067120" y="3970440"/>
            <a:ext cx="470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课时 简单的一次函数的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文本框 3132"/>
          <p:cNvSpPr/>
          <p:nvPr/>
        </p:nvSpPr>
        <p:spPr>
          <a:xfrm>
            <a:off x="749160" y="853920"/>
            <a:ext cx="719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体重为多少千克时，台秤的指针恰好转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度的位置？当体重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千克时，台秤的指针转过的角度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34819"/>
          <p:cNvSpPr/>
          <p:nvPr/>
        </p:nvSpPr>
        <p:spPr>
          <a:xfrm>
            <a:off x="828720" y="2809800"/>
            <a:ext cx="742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当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18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80=12/5x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=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当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=5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12/5×50=1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即当体重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7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千克时，台秤的指针恰好转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8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度的位置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当体重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千克时，台秤的指针转过的角度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2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度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0" y="6858000"/>
            <a:ext cx="4859280" cy="360"/>
            <a:chOff x="0" y="6858000"/>
            <a:chExt cx="4859280" cy="360"/>
          </a:xfrm>
        </p:grpSpPr>
        <p:sp>
          <p:nvSpPr>
            <p:cNvPr id="271" name="Line 121"/>
            <p:cNvSpPr/>
            <p:nvPr/>
          </p:nvSpPr>
          <p:spPr>
            <a:xfrm>
              <a:off x="0" y="6858000"/>
              <a:ext cx="4859280" cy="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0" y="685800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Text Box 7"/>
          <p:cNvSpPr/>
          <p:nvPr/>
        </p:nvSpPr>
        <p:spPr>
          <a:xfrm>
            <a:off x="719280" y="879480"/>
            <a:ext cx="76626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市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市分别有某种库存机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台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台，现决定支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台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台，已知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市调运一台机器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村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村的运费分别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；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市调运一台机器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村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村的运费分别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838080" y="3159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市运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市机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台，求总运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元）关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关系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838080" y="42894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②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总运费最低的调运方案的最低运费是多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0"/>
          <p:cNvSpPr/>
          <p:nvPr/>
        </p:nvSpPr>
        <p:spPr>
          <a:xfrm>
            <a:off x="841320" y="882720"/>
            <a:ext cx="6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0"/>
          <p:cNvSpPr/>
          <p:nvPr/>
        </p:nvSpPr>
        <p:spPr>
          <a:xfrm>
            <a:off x="685800" y="882720"/>
            <a:ext cx="79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市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市库存机器共：（            ）台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村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村共需（          ）台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671400" y="22417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市运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村      台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市剩余              台运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716040" y="3019320"/>
            <a:ext cx="650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市运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村              台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市剩余                              台运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2695680" y="223668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2554200" y="30193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10-x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7"/>
          <p:cNvSpPr/>
          <p:nvPr/>
        </p:nvSpPr>
        <p:spPr>
          <a:xfrm>
            <a:off x="5541840" y="301932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〔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12-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10-x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8"/>
          <p:cNvSpPr/>
          <p:nvPr/>
        </p:nvSpPr>
        <p:spPr>
          <a:xfrm>
            <a:off x="4857840" y="22417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6-x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9"/>
          <p:cNvSpPr/>
          <p:nvPr/>
        </p:nvSpPr>
        <p:spPr>
          <a:xfrm>
            <a:off x="671400" y="429588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②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先求出总运费的关系式，再对照一次函数最值相关问题具体分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0"/>
          <p:cNvSpPr/>
          <p:nvPr/>
        </p:nvSpPr>
        <p:spPr>
          <a:xfrm>
            <a:off x="5853240" y="87012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12+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1"/>
          <p:cNvSpPr/>
          <p:nvPr/>
        </p:nvSpPr>
        <p:spPr>
          <a:xfrm>
            <a:off x="2266920" y="140652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10+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6"/>
          <p:cNvSpPr/>
          <p:nvPr/>
        </p:nvSpPr>
        <p:spPr>
          <a:xfrm>
            <a:off x="914400" y="739800"/>
            <a:ext cx="71629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市运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市机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台，则有题意可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 = 300x  + 5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-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 4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-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8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2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-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 200 x +  8600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≤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总运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元）关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关系式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 = 200 x +  8600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≤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685800" y="1546200"/>
            <a:ext cx="75438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②  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 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0 x +  8600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≤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是一次函数，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增大而增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取最小值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有最大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即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 = 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 = 86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∴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总运费最低的调运方案的最低运费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6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6"/>
          <p:cNvSpPr/>
          <p:nvPr/>
        </p:nvSpPr>
        <p:spPr>
          <a:xfrm>
            <a:off x="755640" y="1341360"/>
            <a:ext cx="7227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次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最大值”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最小值”的产生和自变量的取值范围相辅相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≤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 = 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 = ka + b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就是最小值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 = c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 = kc + b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就是最大值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≤ c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 = 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 = ka + b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就是最大值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 = c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 = kc+ b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就是最小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圆角矩形 31"/>
          <p:cNvSpPr/>
          <p:nvPr/>
        </p:nvSpPr>
        <p:spPr>
          <a:xfrm>
            <a:off x="539640" y="911160"/>
            <a:ext cx="119232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方法归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文本占位符 40961"/>
          <p:cNvSpPr/>
          <p:nvPr/>
        </p:nvSpPr>
        <p:spPr>
          <a:xfrm>
            <a:off x="457200" y="596880"/>
            <a:ext cx="822960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节约用水，某市制定以下用水收费标准，每户每月用水不超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立方米，每立方米收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外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的污水处理费；超过时，超过部分每立方米收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外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污水处理费，现设一户每月用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立方米，应缴水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求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关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关系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该市一户某月若用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=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立方米时，求应缴水费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该市一户某月缴水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6.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，求该户这月用水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占位符 43009"/>
          <p:cNvSpPr/>
          <p:nvPr/>
        </p:nvSpPr>
        <p:spPr>
          <a:xfrm>
            <a:off x="557280" y="4876920"/>
            <a:ext cx="754524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分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每立方米收费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+0.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元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超过的部分每立方米收费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5+1.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文本框 43010"/>
          <p:cNvSpPr/>
          <p:nvPr/>
        </p:nvSpPr>
        <p:spPr>
          <a:xfrm>
            <a:off x="380880" y="55404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关于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函数关系式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组合 43012"/>
          <p:cNvGrpSpPr/>
          <p:nvPr/>
        </p:nvGrpSpPr>
        <p:grpSpPr>
          <a:xfrm>
            <a:off x="961920" y="1316160"/>
            <a:ext cx="7267680" cy="1322280"/>
            <a:chOff x="961920" y="1316160"/>
            <a:chExt cx="7267680" cy="1322280"/>
          </a:xfrm>
        </p:grpSpPr>
        <p:pic>
          <p:nvPicPr>
            <p:cNvPr id="296" name="对象 43013" descr=""/>
            <p:cNvPicPr/>
            <p:nvPr/>
          </p:nvPicPr>
          <p:blipFill>
            <a:blip r:embed="rId1"/>
            <a:stretch/>
          </p:blipFill>
          <p:spPr>
            <a:xfrm>
              <a:off x="1359000" y="1371600"/>
              <a:ext cx="72540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文本框 43014"/>
            <p:cNvSpPr/>
            <p:nvPr/>
          </p:nvSpPr>
          <p:spPr>
            <a:xfrm>
              <a:off x="1814400" y="1316160"/>
              <a:ext cx="533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(1+0.3)x =1.3x        (0≤x≤8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文本框 43015"/>
            <p:cNvSpPr/>
            <p:nvPr/>
          </p:nvSpPr>
          <p:spPr>
            <a:xfrm>
              <a:off x="1600200" y="2154240"/>
              <a:ext cx="66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(1.5+1.2)(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-8)+1.3×8=2.7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-11.2    (x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＞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8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文本框 43016"/>
            <p:cNvSpPr/>
            <p:nvPr/>
          </p:nvSpPr>
          <p:spPr>
            <a:xfrm>
              <a:off x="961920" y="17733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y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文本框 1"/>
          <p:cNvSpPr/>
          <p:nvPr/>
        </p:nvSpPr>
        <p:spPr>
          <a:xfrm>
            <a:off x="365040" y="2978280"/>
            <a:ext cx="53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当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=1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2.7×10-11.2=15.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2"/>
          <p:cNvSpPr/>
          <p:nvPr/>
        </p:nvSpPr>
        <p:spPr>
          <a:xfrm>
            <a:off x="360360" y="4253040"/>
            <a:ext cx="84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因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.3×8=10.4&lt;26.6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所以该用户用水量超过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8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立方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3"/>
          <p:cNvSpPr/>
          <p:nvPr/>
        </p:nvSpPr>
        <p:spPr>
          <a:xfrm>
            <a:off x="1096920" y="4976640"/>
            <a:ext cx="43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所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.7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11.2=26.6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解得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文本框 4"/>
          <p:cNvSpPr/>
          <p:nvPr/>
        </p:nvSpPr>
        <p:spPr>
          <a:xfrm>
            <a:off x="1135080" y="3562200"/>
            <a:ext cx="43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答：应缴水费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5.8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5"/>
          <p:cNvSpPr/>
          <p:nvPr/>
        </p:nvSpPr>
        <p:spPr>
          <a:xfrm>
            <a:off x="1106640" y="5533920"/>
            <a:ext cx="42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答：该户这月用水量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圆角矩形 73781"/>
          <p:cNvSpPr/>
          <p:nvPr/>
        </p:nvSpPr>
        <p:spPr>
          <a:xfrm>
            <a:off x="1476360" y="1989000"/>
            <a:ext cx="6480360" cy="2952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圆角矩形 31"/>
          <p:cNvSpPr/>
          <p:nvPr/>
        </p:nvSpPr>
        <p:spPr>
          <a:xfrm>
            <a:off x="684360" y="979560"/>
            <a:ext cx="1406520" cy="426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归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73780"/>
          <p:cNvSpPr/>
          <p:nvPr/>
        </p:nvSpPr>
        <p:spPr>
          <a:xfrm>
            <a:off x="1538280" y="2347920"/>
            <a:ext cx="656280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自变量的不同取值范围内表示函数关系的表达式有不同的形式，这样的函数称为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分段函数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分段函数在生活中也有很多应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6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4"/>
          <p:cNvSpPr/>
          <p:nvPr/>
        </p:nvSpPr>
        <p:spPr>
          <a:xfrm>
            <a:off x="762120" y="909720"/>
            <a:ext cx="72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市出租车的收费标准：不超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k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计费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k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后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k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计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1824480" y="2058840"/>
            <a:ext cx="52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写出车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路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(km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关系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1763640" y="263700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当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0&lt;x≤3km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时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,    y=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9"/>
          <p:cNvSpPr/>
          <p:nvPr/>
        </p:nvSpPr>
        <p:spPr>
          <a:xfrm>
            <a:off x="1835280" y="3354480"/>
            <a:ext cx="63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当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x&gt;3km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时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,    y=7+2.4(x-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1927800" y="3787920"/>
            <a:ext cx="458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亮乘出租车出行，付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2.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，你能算出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亮乘车的路程吗？（精确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1k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1"/>
          <p:cNvSpPr/>
          <p:nvPr/>
        </p:nvSpPr>
        <p:spPr>
          <a:xfrm>
            <a:off x="1766880" y="494028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∵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12.3&gt;7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2"/>
          <p:cNvSpPr/>
          <p:nvPr/>
        </p:nvSpPr>
        <p:spPr>
          <a:xfrm>
            <a:off x="1739880" y="548172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12.3=7+2.4(x-3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3"/>
          <p:cNvSpPr/>
          <p:nvPr/>
        </p:nvSpPr>
        <p:spPr>
          <a:xfrm>
            <a:off x="2343240" y="595008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x=5.2(k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31"/>
          <p:cNvSpPr/>
          <p:nvPr/>
        </p:nvSpPr>
        <p:spPr>
          <a:xfrm>
            <a:off x="547560" y="539640"/>
            <a:ext cx="119232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2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3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矩形 11"/>
          <p:cNvSpPr/>
          <p:nvPr/>
        </p:nvSpPr>
        <p:spPr>
          <a:xfrm>
            <a:off x="539640" y="2133720"/>
            <a:ext cx="781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会根据问题情境的数量关系建立相应的一次函数表达式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能利用一次函数的相关性质解决简单的实际问题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797040" y="282600"/>
            <a:ext cx="750888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请每位同学伸出一只手掌，把大拇指与小拇指尽量张开，两指间的距离称为指距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指距与身高具有如下关系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536840" y="2089080"/>
          <a:ext cx="6172200" cy="1447920"/>
        </p:xfrm>
        <a:graphic>
          <a:graphicData uri="http://schemas.openxmlformats.org/drawingml/2006/table">
            <a:tbl>
              <a:tblPr/>
              <a:tblGrid>
                <a:gridCol w="2448000"/>
                <a:gridCol w="1255680"/>
                <a:gridCol w="1230120"/>
                <a:gridCol w="1238400"/>
              </a:tblGrid>
              <a:tr h="663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指距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LF-32769-4-1877633753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LF-3-0-1236011663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LF-3-0-1236011663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LF-3-0-1236011663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</a:tr>
              <a:tr h="784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身高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7c7c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LF-3-0-1236011663"/>
                        </a:rPr>
                        <a:t>1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7c7c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LF-3-0-1236011663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7c7c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LF-3-0-1236011663"/>
                        </a:rPr>
                        <a:t>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7c7c7"/>
                    </a:solidFill>
                  </a:tcPr>
                </a:tc>
              </a:tr>
            </a:tbl>
          </a:graphicData>
        </a:graphic>
      </p:graphicFrame>
      <p:sp>
        <p:nvSpPr>
          <p:cNvPr id="319" name="Rectangle 39"/>
          <p:cNvSpPr/>
          <p:nvPr/>
        </p:nvSpPr>
        <p:spPr>
          <a:xfrm>
            <a:off x="762120" y="3524400"/>
            <a:ext cx="80769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） 求身高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与指距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关系式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） 当李华的指距为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22cm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你能预测他的身高吗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0"/>
          <p:cNvSpPr/>
          <p:nvPr/>
        </p:nvSpPr>
        <p:spPr>
          <a:xfrm>
            <a:off x="1325160" y="4900680"/>
            <a:ext cx="66283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 </a:t>
            </a:r>
            <a:r>
              <a:rPr b="0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分析：</a:t>
            </a:r>
            <a:r>
              <a:rPr b="0" lang="zh-CN" sz="2500" spc="-1" strike="noStrike">
                <a:solidFill>
                  <a:srgbClr val="2f2f00"/>
                </a:solidFill>
                <a:latin typeface="Times New Roman"/>
                <a:ea typeface="黑体"/>
              </a:rPr>
              <a:t>上表</a:t>
            </a:r>
            <a:r>
              <a:rPr b="0" lang="en-US" sz="2500" spc="-1" strike="noStrike">
                <a:solidFill>
                  <a:srgbClr val="2f2f00"/>
                </a:solidFill>
                <a:latin typeface="Times New Roman"/>
                <a:ea typeface="黑体"/>
              </a:rPr>
              <a:t>3</a:t>
            </a:r>
            <a:r>
              <a:rPr b="0" lang="zh-CN" sz="2500" spc="-1" strike="noStrike">
                <a:solidFill>
                  <a:srgbClr val="2f2f00"/>
                </a:solidFill>
                <a:latin typeface="Times New Roman"/>
                <a:ea typeface="黑体"/>
              </a:rPr>
              <a:t>组数据反映了身高</a:t>
            </a:r>
            <a:r>
              <a:rPr b="0" i="1" lang="en-US" sz="2500" spc="-1" strike="noStrike">
                <a:solidFill>
                  <a:srgbClr val="2f2f00"/>
                </a:solidFill>
                <a:latin typeface="Times New Roman"/>
                <a:ea typeface="黑体"/>
              </a:rPr>
              <a:t>y</a:t>
            </a:r>
            <a:r>
              <a:rPr b="0" lang="zh-CN" sz="2500" spc="-1" strike="noStrike">
                <a:solidFill>
                  <a:srgbClr val="2f2f00"/>
                </a:solidFill>
                <a:latin typeface="Times New Roman"/>
                <a:ea typeface="黑体"/>
              </a:rPr>
              <a:t>与指距</a:t>
            </a:r>
            <a:r>
              <a:rPr b="0" i="1" lang="en-US" sz="2500" spc="-1" strike="noStrike">
                <a:solidFill>
                  <a:srgbClr val="2f2f00"/>
                </a:solidFill>
                <a:latin typeface="Times New Roman"/>
                <a:ea typeface="黑体"/>
              </a:rPr>
              <a:t>x</a:t>
            </a:r>
            <a:r>
              <a:rPr b="0" lang="zh-CN" sz="2500" spc="-1" strike="noStrike">
                <a:solidFill>
                  <a:srgbClr val="2f2f00"/>
                </a:solidFill>
                <a:latin typeface="Times New Roman"/>
                <a:ea typeface="黑体"/>
              </a:rPr>
              <a:t>之间的对应关系，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2f2f00"/>
                </a:solidFill>
                <a:latin typeface="Times New Roman"/>
                <a:ea typeface="黑体"/>
              </a:rPr>
              <a:t>          </a:t>
            </a:r>
            <a:r>
              <a:rPr b="0" lang="zh-CN" sz="2500" spc="-1" strike="noStrike">
                <a:solidFill>
                  <a:srgbClr val="2f2f00"/>
                </a:solidFill>
                <a:latin typeface="Times New Roman"/>
                <a:ea typeface="黑体"/>
              </a:rPr>
              <a:t>观察这两个变量之间的变化规律，当指距增加</a:t>
            </a:r>
            <a:r>
              <a:rPr b="0" lang="en-US" sz="2500" spc="-1" strike="noStrike">
                <a:solidFill>
                  <a:srgbClr val="2f2f00"/>
                </a:solidFill>
                <a:latin typeface="Times New Roman"/>
                <a:ea typeface="黑体"/>
              </a:rPr>
              <a:t>1cm</a:t>
            </a:r>
            <a:r>
              <a:rPr b="0" lang="zh-CN" sz="2500" spc="-1" strike="noStrike">
                <a:solidFill>
                  <a:srgbClr val="2f2f00"/>
                </a:solidFill>
                <a:latin typeface="Times New Roman"/>
                <a:ea typeface="黑体"/>
              </a:rPr>
              <a:t>，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2f2f00"/>
                </a:solidFill>
                <a:latin typeface="Times New Roman"/>
                <a:ea typeface="黑体"/>
              </a:rPr>
              <a:t>          </a:t>
            </a:r>
            <a:r>
              <a:rPr b="0" lang="zh-CN" sz="2500" spc="-1" strike="noStrike">
                <a:solidFill>
                  <a:srgbClr val="2f2f00"/>
                </a:solidFill>
                <a:latin typeface="Times New Roman"/>
                <a:ea typeface="黑体"/>
              </a:rPr>
              <a:t>身高就增加</a:t>
            </a:r>
            <a:r>
              <a:rPr b="0" lang="en-US" sz="2500" spc="-1" strike="noStrike">
                <a:solidFill>
                  <a:srgbClr val="2f2f00"/>
                </a:solidFill>
                <a:latin typeface="Times New Roman"/>
                <a:ea typeface="黑体"/>
              </a:rPr>
              <a:t>9cm</a:t>
            </a:r>
            <a:r>
              <a:rPr b="0" lang="zh-CN" sz="2500" spc="-1" strike="noStrike">
                <a:solidFill>
                  <a:srgbClr val="2f2f00"/>
                </a:solidFill>
                <a:latin typeface="Times New Roman"/>
                <a:ea typeface="黑体"/>
              </a:rPr>
              <a:t>，可以尝试建立一次函数模型</a:t>
            </a:r>
            <a:r>
              <a:rPr b="0" lang="en-US" sz="2500" spc="-1" strike="noStrike">
                <a:solidFill>
                  <a:srgbClr val="2f2f00"/>
                </a:solidFill>
                <a:latin typeface="Times New Roman"/>
                <a:ea typeface="黑体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Group 26"/>
          <p:cNvGrpSpPr/>
          <p:nvPr/>
        </p:nvGrpSpPr>
        <p:grpSpPr>
          <a:xfrm>
            <a:off x="860400" y="1635120"/>
            <a:ext cx="9981720" cy="2467440"/>
            <a:chOff x="860400" y="1635120"/>
            <a:chExt cx="9981720" cy="2467440"/>
          </a:xfrm>
        </p:grpSpPr>
        <p:sp>
          <p:nvSpPr>
            <p:cNvPr id="323" name="Rectangle 5"/>
            <p:cNvSpPr/>
            <p:nvPr/>
          </p:nvSpPr>
          <p:spPr>
            <a:xfrm>
              <a:off x="860400" y="1635120"/>
              <a:ext cx="7616520" cy="246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解：设身高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y</a:t>
              </a:r>
              <a:r>
                <a:rPr b="0" lang="zh-CN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与指距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x</a:t>
              </a:r>
              <a:r>
                <a:rPr b="0" lang="zh-CN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之间的函数表达式为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y = kx + b</a:t>
              </a:r>
              <a:r>
                <a:rPr b="0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.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将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x=</a:t>
              </a:r>
              <a:r>
                <a:rPr b="0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19</a:t>
              </a:r>
              <a:r>
                <a:rPr b="0" lang="zh-CN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， 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y=</a:t>
              </a:r>
              <a:r>
                <a:rPr b="0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151</a:t>
              </a:r>
              <a:r>
                <a:rPr b="0" lang="zh-CN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与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x </a:t>
              </a:r>
              <a:r>
                <a:rPr b="0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= 20</a:t>
              </a:r>
              <a:r>
                <a:rPr b="0" lang="zh-CN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，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y</a:t>
              </a:r>
              <a:r>
                <a:rPr b="0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=160</a:t>
              </a:r>
              <a:r>
                <a:rPr b="0" lang="zh-CN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代入上式，得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            </a:t>
              </a:r>
              <a:r>
                <a:rPr b="0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19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k</a:t>
              </a:r>
              <a:r>
                <a:rPr b="0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+ 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b </a:t>
              </a:r>
              <a:r>
                <a:rPr b="0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= 151</a:t>
              </a:r>
              <a:r>
                <a:rPr b="0" lang="zh-CN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，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            </a:t>
              </a:r>
              <a:r>
                <a:rPr b="0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20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k</a:t>
              </a:r>
              <a:r>
                <a:rPr b="0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+ 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b</a:t>
              </a:r>
              <a:r>
                <a:rPr b="0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= 160.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17"/>
            <p:cNvSpPr/>
            <p:nvPr/>
          </p:nvSpPr>
          <p:spPr>
            <a:xfrm>
              <a:off x="1774440" y="2701800"/>
              <a:ext cx="152280" cy="8380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20"/>
            <p:cNvSpPr/>
            <p:nvPr/>
          </p:nvSpPr>
          <p:spPr>
            <a:xfrm>
              <a:off x="9699480" y="2778120"/>
              <a:ext cx="114264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21"/>
            <p:cNvSpPr/>
            <p:nvPr/>
          </p:nvSpPr>
          <p:spPr>
            <a:xfrm>
              <a:off x="9699480" y="3311280"/>
              <a:ext cx="1142640" cy="5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Rectangle 30"/>
          <p:cNvSpPr/>
          <p:nvPr/>
        </p:nvSpPr>
        <p:spPr>
          <a:xfrm>
            <a:off x="1570680" y="762120"/>
            <a:ext cx="4395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） 求身高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与指距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表达式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847800" y="3801960"/>
            <a:ext cx="777240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解得</a:t>
            </a:r>
            <a:r>
              <a:rPr b="0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k =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9</a:t>
            </a:r>
            <a:r>
              <a:rPr b="0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， </a:t>
            </a:r>
            <a:r>
              <a:rPr b="0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b =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0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20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于是</a:t>
            </a:r>
            <a:r>
              <a:rPr b="0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 =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9</a:t>
            </a:r>
            <a:r>
              <a:rPr b="0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x </a:t>
            </a:r>
            <a:r>
              <a:rPr b="0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20.                                                          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838080" y="4927680"/>
            <a:ext cx="685800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将</a:t>
            </a:r>
            <a:r>
              <a:rPr b="0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x =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21</a:t>
            </a:r>
            <a:r>
              <a:rPr b="0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0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 =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169</a:t>
            </a:r>
            <a:r>
              <a:rPr b="0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代入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0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式也符合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公式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0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就是身高</a:t>
            </a:r>
            <a:r>
              <a:rPr b="0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0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与指距</a:t>
            </a:r>
            <a:r>
              <a:rPr b="0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0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之间的函数表达式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766800" y="2151000"/>
            <a:ext cx="538488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解：当</a:t>
            </a:r>
            <a:r>
              <a:rPr b="0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= 22</a:t>
            </a:r>
            <a:r>
              <a:rPr b="0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时， </a:t>
            </a:r>
            <a:r>
              <a:rPr b="0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= 9×22</a:t>
            </a:r>
            <a:r>
              <a:rPr b="0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20 = 178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</a:t>
            </a:r>
            <a:r>
              <a:rPr b="0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因此，李华的身高大约是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178 cm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1742040" y="1143000"/>
            <a:ext cx="5429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） 当李华的指距为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22cm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你能预测他的身高吗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文本框 10874"/>
          <p:cNvSpPr/>
          <p:nvPr/>
        </p:nvSpPr>
        <p:spPr>
          <a:xfrm>
            <a:off x="395280" y="549360"/>
            <a:ext cx="84247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近几年来，由于经济和社会发展迅速，用电量越来越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缓解用电紧张，某电力公司特制定了新的用电收费标准，每月用电量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度）与应付电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元）的关系如图所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10876"/>
          <p:cNvSpPr/>
          <p:nvPr/>
        </p:nvSpPr>
        <p:spPr>
          <a:xfrm>
            <a:off x="611280" y="2060640"/>
            <a:ext cx="81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请你根据图象所描述的信息，分别求出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≤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≤5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&gt;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关系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10878"/>
          <p:cNvSpPr/>
          <p:nvPr/>
        </p:nvSpPr>
        <p:spPr>
          <a:xfrm>
            <a:off x="250920" y="3068640"/>
            <a:ext cx="4825800" cy="36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当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≤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≤5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时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由图象可设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k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其经过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，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代入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5=50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k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∴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k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0.5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∴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0.5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当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＞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由图象可设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k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其经过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0,2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、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00,7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，得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k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0.9,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-20,∴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0.9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508720" y="3186000"/>
            <a:ext cx="71280" cy="2521080"/>
            <a:chOff x="5508720" y="3186000"/>
            <a:chExt cx="71280" cy="2521080"/>
          </a:xfrm>
        </p:grpSpPr>
        <p:sp>
          <p:nvSpPr>
            <p:cNvPr id="336" name="直接连接符 10881"/>
            <p:cNvSpPr/>
            <p:nvPr/>
          </p:nvSpPr>
          <p:spPr>
            <a:xfrm>
              <a:off x="5508720" y="3186000"/>
              <a:ext cx="71280" cy="252108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 txBox="1"/>
            <p:nvPr/>
          </p:nvSpPr>
          <p:spPr>
            <a:xfrm>
              <a:off x="5508720" y="3186000"/>
              <a:ext cx="71280" cy="2521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579640" y="5635800"/>
            <a:ext cx="2592720" cy="71280"/>
            <a:chOff x="5579640" y="5635800"/>
            <a:chExt cx="2592720" cy="71280"/>
          </a:xfrm>
        </p:grpSpPr>
        <p:sp>
          <p:nvSpPr>
            <p:cNvPr id="339" name="直接连接符 10882"/>
            <p:cNvSpPr/>
            <p:nvPr/>
          </p:nvSpPr>
          <p:spPr>
            <a:xfrm flipV="1">
              <a:off x="5580000" y="5635800"/>
              <a:ext cx="2592360" cy="7128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 txBox="1"/>
            <p:nvPr/>
          </p:nvSpPr>
          <p:spPr>
            <a:xfrm rot="10800000">
              <a:off x="5579640" y="5635800"/>
              <a:ext cx="259236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5580000" y="5202360"/>
            <a:ext cx="73080" cy="360"/>
            <a:chOff x="5580000" y="5202360"/>
            <a:chExt cx="73080" cy="360"/>
          </a:xfrm>
        </p:grpSpPr>
        <p:sp>
          <p:nvSpPr>
            <p:cNvPr id="342" name="直接连接符 10884"/>
            <p:cNvSpPr/>
            <p:nvPr/>
          </p:nvSpPr>
          <p:spPr>
            <a:xfrm>
              <a:off x="5580000" y="5202360"/>
              <a:ext cx="73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5580000" y="5202360"/>
              <a:ext cx="7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553000" y="4687920"/>
            <a:ext cx="73080" cy="360"/>
            <a:chOff x="5553000" y="4687920"/>
            <a:chExt cx="73080" cy="360"/>
          </a:xfrm>
        </p:grpSpPr>
        <p:sp>
          <p:nvSpPr>
            <p:cNvPr id="345" name="直接连接符 10885"/>
            <p:cNvSpPr/>
            <p:nvPr/>
          </p:nvSpPr>
          <p:spPr>
            <a:xfrm>
              <a:off x="5553000" y="4687920"/>
              <a:ext cx="73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5553000" y="4687920"/>
              <a:ext cx="7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546880" y="4173480"/>
            <a:ext cx="72720" cy="360"/>
            <a:chOff x="5546880" y="4173480"/>
            <a:chExt cx="72720" cy="360"/>
          </a:xfrm>
        </p:grpSpPr>
        <p:sp>
          <p:nvSpPr>
            <p:cNvPr id="348" name="直接连接符 10886"/>
            <p:cNvSpPr/>
            <p:nvPr/>
          </p:nvSpPr>
          <p:spPr>
            <a:xfrm>
              <a:off x="5546880" y="4173480"/>
              <a:ext cx="72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5546880" y="4173480"/>
              <a:ext cx="7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5540400" y="3679920"/>
            <a:ext cx="73080" cy="360"/>
            <a:chOff x="5540400" y="3679920"/>
            <a:chExt cx="73080" cy="360"/>
          </a:xfrm>
        </p:grpSpPr>
        <p:sp>
          <p:nvSpPr>
            <p:cNvPr id="351" name="直接连接符 10887"/>
            <p:cNvSpPr/>
            <p:nvPr/>
          </p:nvSpPr>
          <p:spPr>
            <a:xfrm>
              <a:off x="5540400" y="3679920"/>
              <a:ext cx="73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 txBox="1"/>
            <p:nvPr/>
          </p:nvSpPr>
          <p:spPr>
            <a:xfrm>
              <a:off x="5540400" y="3679920"/>
              <a:ext cx="7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6000840" y="5635800"/>
            <a:ext cx="360" cy="71280"/>
            <a:chOff x="6000840" y="5635800"/>
            <a:chExt cx="360" cy="71280"/>
          </a:xfrm>
        </p:grpSpPr>
        <p:sp>
          <p:nvSpPr>
            <p:cNvPr id="354" name="直接连接符 10888"/>
            <p:cNvSpPr/>
            <p:nvPr/>
          </p:nvSpPr>
          <p:spPr>
            <a:xfrm>
              <a:off x="6000840" y="5635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 txBox="1"/>
            <p:nvPr/>
          </p:nvSpPr>
          <p:spPr>
            <a:xfrm>
              <a:off x="6000840" y="5635800"/>
              <a:ext cx="36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6461280" y="5607000"/>
            <a:ext cx="360" cy="71640"/>
            <a:chOff x="6461280" y="5607000"/>
            <a:chExt cx="360" cy="71640"/>
          </a:xfrm>
        </p:grpSpPr>
        <p:sp>
          <p:nvSpPr>
            <p:cNvPr id="357" name="直接连接符 10889"/>
            <p:cNvSpPr/>
            <p:nvPr/>
          </p:nvSpPr>
          <p:spPr>
            <a:xfrm>
              <a:off x="6461280" y="560700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 txBox="1"/>
            <p:nvPr/>
          </p:nvSpPr>
          <p:spPr>
            <a:xfrm>
              <a:off x="6461280" y="5607000"/>
              <a:ext cx="360" cy="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6921360" y="5595840"/>
            <a:ext cx="360" cy="71640"/>
            <a:chOff x="6921360" y="5595840"/>
            <a:chExt cx="360" cy="71640"/>
          </a:xfrm>
        </p:grpSpPr>
        <p:sp>
          <p:nvSpPr>
            <p:cNvPr id="360" name="直接连接符 10890"/>
            <p:cNvSpPr/>
            <p:nvPr/>
          </p:nvSpPr>
          <p:spPr>
            <a:xfrm>
              <a:off x="6921360" y="559584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 txBox="1"/>
            <p:nvPr/>
          </p:nvSpPr>
          <p:spPr>
            <a:xfrm>
              <a:off x="6921360" y="5595840"/>
              <a:ext cx="360" cy="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7364520" y="5584680"/>
            <a:ext cx="360" cy="71640"/>
            <a:chOff x="7364520" y="5584680"/>
            <a:chExt cx="360" cy="71640"/>
          </a:xfrm>
        </p:grpSpPr>
        <p:sp>
          <p:nvSpPr>
            <p:cNvPr id="363" name="直接连接符 10891"/>
            <p:cNvSpPr/>
            <p:nvPr/>
          </p:nvSpPr>
          <p:spPr>
            <a:xfrm>
              <a:off x="7364520" y="558468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 txBox="1"/>
            <p:nvPr/>
          </p:nvSpPr>
          <p:spPr>
            <a:xfrm>
              <a:off x="7364520" y="5584680"/>
              <a:ext cx="360" cy="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文本框 10892"/>
          <p:cNvSpPr/>
          <p:nvPr/>
        </p:nvSpPr>
        <p:spPr>
          <a:xfrm>
            <a:off x="5796000" y="56358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10893"/>
          <p:cNvSpPr/>
          <p:nvPr/>
        </p:nvSpPr>
        <p:spPr>
          <a:xfrm>
            <a:off x="6249960" y="56358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文本框 10894"/>
          <p:cNvSpPr/>
          <p:nvPr/>
        </p:nvSpPr>
        <p:spPr>
          <a:xfrm>
            <a:off x="6661080" y="56358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10895"/>
          <p:cNvSpPr/>
          <p:nvPr/>
        </p:nvSpPr>
        <p:spPr>
          <a:xfrm>
            <a:off x="7164360" y="56358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文本框 10896"/>
          <p:cNvSpPr/>
          <p:nvPr/>
        </p:nvSpPr>
        <p:spPr>
          <a:xfrm>
            <a:off x="5076720" y="49608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文本框 10897"/>
          <p:cNvSpPr/>
          <p:nvPr/>
        </p:nvSpPr>
        <p:spPr>
          <a:xfrm>
            <a:off x="5076720" y="45291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文本框 10898"/>
          <p:cNvSpPr/>
          <p:nvPr/>
        </p:nvSpPr>
        <p:spPr>
          <a:xfrm>
            <a:off x="5076720" y="4122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文本框 10899"/>
          <p:cNvSpPr/>
          <p:nvPr/>
        </p:nvSpPr>
        <p:spPr>
          <a:xfrm>
            <a:off x="4859280" y="31161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10900"/>
          <p:cNvSpPr/>
          <p:nvPr/>
        </p:nvSpPr>
        <p:spPr>
          <a:xfrm>
            <a:off x="5148360" y="56358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10901"/>
          <p:cNvSpPr/>
          <p:nvPr/>
        </p:nvSpPr>
        <p:spPr>
          <a:xfrm>
            <a:off x="5651640" y="30178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10902"/>
          <p:cNvSpPr/>
          <p:nvPr/>
        </p:nvSpPr>
        <p:spPr>
          <a:xfrm>
            <a:off x="8101080" y="55134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度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5580000" y="5202360"/>
            <a:ext cx="865080" cy="360"/>
            <a:chOff x="5580000" y="5202360"/>
            <a:chExt cx="865080" cy="360"/>
          </a:xfrm>
        </p:grpSpPr>
        <p:sp>
          <p:nvSpPr>
            <p:cNvPr id="377" name="直接连接符 10903"/>
            <p:cNvSpPr/>
            <p:nvPr/>
          </p:nvSpPr>
          <p:spPr>
            <a:xfrm>
              <a:off x="5580000" y="5202360"/>
              <a:ext cx="86508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 txBox="1"/>
            <p:nvPr/>
          </p:nvSpPr>
          <p:spPr>
            <a:xfrm>
              <a:off x="5580000" y="5202360"/>
              <a:ext cx="86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6455880" y="5202360"/>
            <a:ext cx="360" cy="504720"/>
            <a:chOff x="6455880" y="5202360"/>
            <a:chExt cx="360" cy="504720"/>
          </a:xfrm>
        </p:grpSpPr>
        <p:sp>
          <p:nvSpPr>
            <p:cNvPr id="380" name="直接连接符 10904"/>
            <p:cNvSpPr/>
            <p:nvPr/>
          </p:nvSpPr>
          <p:spPr>
            <a:xfrm flipV="1">
              <a:off x="6456240" y="5202360"/>
              <a:ext cx="0" cy="50472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 txBox="1"/>
            <p:nvPr/>
          </p:nvSpPr>
          <p:spPr>
            <a:xfrm rot="10800000">
              <a:off x="6455880" y="5202360"/>
              <a:ext cx="36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5580000" y="4267080"/>
            <a:ext cx="1728720" cy="360"/>
            <a:chOff x="5580000" y="4267080"/>
            <a:chExt cx="1728720" cy="360"/>
          </a:xfrm>
        </p:grpSpPr>
        <p:sp>
          <p:nvSpPr>
            <p:cNvPr id="383" name="直接连接符 10905"/>
            <p:cNvSpPr/>
            <p:nvPr/>
          </p:nvSpPr>
          <p:spPr>
            <a:xfrm>
              <a:off x="5580000" y="4267080"/>
              <a:ext cx="1728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 txBox="1"/>
            <p:nvPr/>
          </p:nvSpPr>
          <p:spPr>
            <a:xfrm>
              <a:off x="5580000" y="4267080"/>
              <a:ext cx="172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7319880" y="4267080"/>
            <a:ext cx="38160" cy="1368720"/>
            <a:chOff x="7319880" y="4267080"/>
            <a:chExt cx="38160" cy="1368720"/>
          </a:xfrm>
        </p:grpSpPr>
        <p:sp>
          <p:nvSpPr>
            <p:cNvPr id="386" name="直接连接符 10906"/>
            <p:cNvSpPr/>
            <p:nvPr/>
          </p:nvSpPr>
          <p:spPr>
            <a:xfrm flipH="1" flipV="1">
              <a:off x="7319880" y="4267080"/>
              <a:ext cx="38160" cy="136872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 txBox="1"/>
            <p:nvPr/>
          </p:nvSpPr>
          <p:spPr>
            <a:xfrm rot="10800000">
              <a:off x="7319880" y="4267080"/>
              <a:ext cx="38160" cy="136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579640" y="5202360"/>
            <a:ext cx="865440" cy="504720"/>
            <a:chOff x="5579640" y="5202360"/>
            <a:chExt cx="865440" cy="504720"/>
          </a:xfrm>
        </p:grpSpPr>
        <p:sp>
          <p:nvSpPr>
            <p:cNvPr id="389" name="直接连接符 10907"/>
            <p:cNvSpPr/>
            <p:nvPr/>
          </p:nvSpPr>
          <p:spPr>
            <a:xfrm flipV="1">
              <a:off x="5580000" y="5202360"/>
              <a:ext cx="865080" cy="5047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 txBox="1"/>
            <p:nvPr/>
          </p:nvSpPr>
          <p:spPr>
            <a:xfrm rot="10800000">
              <a:off x="5579640" y="5202360"/>
              <a:ext cx="86508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6444720" y="4122360"/>
            <a:ext cx="1008720" cy="1079640"/>
            <a:chOff x="6444720" y="4122360"/>
            <a:chExt cx="1008720" cy="1079640"/>
          </a:xfrm>
        </p:grpSpPr>
        <p:sp>
          <p:nvSpPr>
            <p:cNvPr id="392" name="直接连接符 10908"/>
            <p:cNvSpPr/>
            <p:nvPr/>
          </p:nvSpPr>
          <p:spPr>
            <a:xfrm flipV="1">
              <a:off x="6445080" y="4122360"/>
              <a:ext cx="1008360" cy="10796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 txBox="1"/>
            <p:nvPr/>
          </p:nvSpPr>
          <p:spPr>
            <a:xfrm rot="10800000">
              <a:off x="6444720" y="4122360"/>
              <a:ext cx="1008360" cy="107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文本框 10909"/>
          <p:cNvSpPr/>
          <p:nvPr/>
        </p:nvSpPr>
        <p:spPr>
          <a:xfrm>
            <a:off x="5076720" y="3833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矩形 41207"/>
          <p:cNvSpPr/>
          <p:nvPr/>
        </p:nvSpPr>
        <p:spPr>
          <a:xfrm>
            <a:off x="1187280" y="112536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根据你的分析：当每月用电量不超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度时，收费标准是多少？当每月用电量超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度时，收费标准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41208"/>
          <p:cNvSpPr/>
          <p:nvPr/>
        </p:nvSpPr>
        <p:spPr>
          <a:xfrm>
            <a:off x="1547640" y="2997360"/>
            <a:ext cx="61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不超过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度部分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.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元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度计算，超过部分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.9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元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度计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矩形 80"/>
          <p:cNvSpPr/>
          <p:nvPr/>
        </p:nvSpPr>
        <p:spPr>
          <a:xfrm>
            <a:off x="270720" y="4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6"/>
          <p:cNvSpPr/>
          <p:nvPr/>
        </p:nvSpPr>
        <p:spPr>
          <a:xfrm>
            <a:off x="1477800" y="249228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简单的一次函数的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左大括号 17"/>
          <p:cNvSpPr/>
          <p:nvPr/>
        </p:nvSpPr>
        <p:spPr>
          <a:xfrm>
            <a:off x="3133800" y="1703520"/>
            <a:ext cx="288720" cy="2952720"/>
          </a:xfrm>
          <a:custGeom>
            <a:avLst/>
            <a:gdLst>
              <a:gd name="textAreaLeft" fmla="*/ 184680 w 288720"/>
              <a:gd name="textAreaRight" fmla="*/ 289080 w 288720"/>
              <a:gd name="textAreaTop" fmla="*/ 14400 h 2952720"/>
              <a:gd name="textAreaBottom" fmla="*/ 293832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0"/>
                  <a:pt x="10800" y="339"/>
                </a:cubicBezTo>
                <a:lnTo>
                  <a:pt x="10800" y="10461"/>
                </a:lnTo>
                <a:cubicBezTo>
                  <a:pt x="10800" y="10631"/>
                  <a:pt x="5400" y="10800"/>
                  <a:pt x="0" y="10800"/>
                </a:cubicBezTo>
                <a:cubicBezTo>
                  <a:pt x="5400" y="10800"/>
                  <a:pt x="10800" y="10970"/>
                  <a:pt x="10800" y="11139"/>
                </a:cubicBezTo>
                <a:lnTo>
                  <a:pt x="10800" y="21261"/>
                </a:lnTo>
                <a:cubicBezTo>
                  <a:pt x="10800" y="2143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8"/>
          <p:cNvSpPr/>
          <p:nvPr/>
        </p:nvSpPr>
        <p:spPr>
          <a:xfrm>
            <a:off x="3422520" y="1413000"/>
            <a:ext cx="23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一次函数的表达式及其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8"/>
          <p:cNvSpPr/>
          <p:nvPr/>
        </p:nvSpPr>
        <p:spPr>
          <a:xfrm>
            <a:off x="3495600" y="4268880"/>
            <a:ext cx="14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段函数的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文本框 4103"/>
          <p:cNvSpPr/>
          <p:nvPr/>
        </p:nvSpPr>
        <p:spPr>
          <a:xfrm>
            <a:off x="3636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圆角矩形 31"/>
          <p:cNvSpPr/>
          <p:nvPr/>
        </p:nvSpPr>
        <p:spPr>
          <a:xfrm>
            <a:off x="428760" y="549360"/>
            <a:ext cx="120492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情境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447"/>
          <p:cNvSpPr/>
          <p:nvPr/>
        </p:nvSpPr>
        <p:spPr>
          <a:xfrm>
            <a:off x="755640" y="981000"/>
            <a:ext cx="73994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明同学在探索鞋码的两种长度“码”与“厘米”之间的换算关系时，通过调查获得下表数据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042920" y="2347920"/>
          <a:ext cx="6697800" cy="1152360"/>
        </p:xfrm>
        <a:graphic>
          <a:graphicData uri="http://schemas.openxmlformats.org/drawingml/2006/table">
            <a:tbl>
              <a:tblPr/>
              <a:tblGrid>
                <a:gridCol w="1297080"/>
                <a:gridCol w="662040"/>
                <a:gridCol w="834840"/>
                <a:gridCol w="836640"/>
                <a:gridCol w="835200"/>
                <a:gridCol w="834840"/>
                <a:gridCol w="833400"/>
                <a:gridCol w="563760"/>
              </a:tblGrid>
              <a:tr h="603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厘米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y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码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文本框 2477"/>
          <p:cNvSpPr/>
          <p:nvPr/>
        </p:nvSpPr>
        <p:spPr>
          <a:xfrm>
            <a:off x="3900600" y="3718080"/>
            <a:ext cx="50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根据表中提供的信息，在同一直角坐标系中描出相应的点，你能发现这些点的分布有什么规律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2481" descr="QQ图片20160129134421"/>
          <p:cNvPicPr/>
          <p:nvPr/>
        </p:nvPicPr>
        <p:blipFill>
          <a:blip r:embed="rId1"/>
          <a:stretch/>
        </p:blipFill>
        <p:spPr>
          <a:xfrm>
            <a:off x="1116000" y="3718080"/>
            <a:ext cx="2590920" cy="239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文本框 96309"/>
          <p:cNvSpPr/>
          <p:nvPr/>
        </p:nvSpPr>
        <p:spPr>
          <a:xfrm>
            <a:off x="2371680" y="31971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96310"/>
          <p:cNvSpPr/>
          <p:nvPr/>
        </p:nvSpPr>
        <p:spPr>
          <a:xfrm>
            <a:off x="2371680" y="283860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96311"/>
          <p:cNvSpPr/>
          <p:nvPr/>
        </p:nvSpPr>
        <p:spPr>
          <a:xfrm>
            <a:off x="2371680" y="170172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96312"/>
          <p:cNvSpPr/>
          <p:nvPr/>
        </p:nvSpPr>
        <p:spPr>
          <a:xfrm>
            <a:off x="2371680" y="206208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96313"/>
          <p:cNvSpPr/>
          <p:nvPr/>
        </p:nvSpPr>
        <p:spPr>
          <a:xfrm>
            <a:off x="2371680" y="246384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96314"/>
          <p:cNvSpPr/>
          <p:nvPr/>
        </p:nvSpPr>
        <p:spPr>
          <a:xfrm>
            <a:off x="2376360" y="1014480"/>
            <a:ext cx="5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96315"/>
          <p:cNvSpPr/>
          <p:nvPr/>
        </p:nvSpPr>
        <p:spPr>
          <a:xfrm>
            <a:off x="2371680" y="13701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916360" y="3322800"/>
            <a:ext cx="3149640" cy="360"/>
            <a:chOff x="2916360" y="3322800"/>
            <a:chExt cx="3149640" cy="360"/>
          </a:xfrm>
        </p:grpSpPr>
        <p:sp>
          <p:nvSpPr>
            <p:cNvPr id="91" name="直接连接符 96318"/>
            <p:cNvSpPr/>
            <p:nvPr/>
          </p:nvSpPr>
          <p:spPr>
            <a:xfrm>
              <a:off x="2916360" y="3322800"/>
              <a:ext cx="3149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916360" y="3322800"/>
              <a:ext cx="314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916360" y="3141720"/>
            <a:ext cx="3149640" cy="360"/>
            <a:chOff x="2916360" y="3141720"/>
            <a:chExt cx="3149640" cy="360"/>
          </a:xfrm>
        </p:grpSpPr>
        <p:sp>
          <p:nvSpPr>
            <p:cNvPr id="94" name="直接连接符 96319"/>
            <p:cNvSpPr/>
            <p:nvPr/>
          </p:nvSpPr>
          <p:spPr>
            <a:xfrm>
              <a:off x="2916360" y="3141720"/>
              <a:ext cx="3149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2916360" y="3141720"/>
              <a:ext cx="314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96320"/>
          <p:cNvGrpSpPr/>
          <p:nvPr/>
        </p:nvGrpSpPr>
        <p:grpSpPr>
          <a:xfrm>
            <a:off x="2914560" y="3681360"/>
            <a:ext cx="3692160" cy="90360"/>
            <a:chOff x="2914560" y="3681360"/>
            <a:chExt cx="3692160" cy="90360"/>
          </a:xfrm>
        </p:grpSpPr>
        <p:grpSp>
          <p:nvGrpSpPr>
            <p:cNvPr id="97" name="组合 96321"/>
            <p:cNvGrpSpPr/>
            <p:nvPr/>
          </p:nvGrpSpPr>
          <p:grpSpPr>
            <a:xfrm>
              <a:off x="3144960" y="3765240"/>
              <a:ext cx="3461760" cy="360"/>
              <a:chOff x="3144960" y="3765240"/>
              <a:chExt cx="3461760" cy="36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3144960" y="3765240"/>
                <a:ext cx="3461760" cy="360"/>
                <a:chOff x="3144960" y="3765240"/>
                <a:chExt cx="3461760" cy="360"/>
              </a:xfrm>
            </p:grpSpPr>
            <p:sp>
              <p:nvSpPr>
                <p:cNvPr id="99" name="直接连接符 96322"/>
                <p:cNvSpPr/>
                <p:nvPr/>
              </p:nvSpPr>
              <p:spPr>
                <a:xfrm>
                  <a:off x="3144960" y="3765240"/>
                  <a:ext cx="346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 txBox="1"/>
                <p:nvPr/>
              </p:nvSpPr>
              <p:spPr>
                <a:xfrm>
                  <a:off x="3144960" y="3765240"/>
                  <a:ext cx="3461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3301920" y="3765240"/>
                <a:ext cx="3029760" cy="360"/>
                <a:chOff x="3301920" y="3765240"/>
                <a:chExt cx="3029760" cy="360"/>
              </a:xfrm>
            </p:grpSpPr>
            <p:sp>
              <p:nvSpPr>
                <p:cNvPr id="102" name="直接连接符 96323"/>
                <p:cNvSpPr/>
                <p:nvPr/>
              </p:nvSpPr>
              <p:spPr>
                <a:xfrm>
                  <a:off x="3301920" y="3765240"/>
                  <a:ext cx="3029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 txBox="1"/>
                <p:nvPr/>
              </p:nvSpPr>
              <p:spPr>
                <a:xfrm>
                  <a:off x="3301920" y="3765240"/>
                  <a:ext cx="3029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" name="任意多边形 96324"/>
            <p:cNvSpPr/>
            <p:nvPr/>
          </p:nvSpPr>
          <p:spPr>
            <a:xfrm>
              <a:off x="2914560" y="3681360"/>
              <a:ext cx="237600" cy="90360"/>
            </a:xfrm>
            <a:custGeom>
              <a:avLst/>
              <a:gdLst/>
              <a:ahLst/>
              <a:rect l="l" t="t" r="r" b="b"/>
              <a:pathLst>
                <a:path w="274" h="56">
                  <a:moveTo>
                    <a:pt x="0" y="56"/>
                  </a:moveTo>
                  <a:cubicBezTo>
                    <a:pt x="22" y="48"/>
                    <a:pt x="45" y="41"/>
                    <a:pt x="67" y="33"/>
                  </a:cubicBezTo>
                  <a:cubicBezTo>
                    <a:pt x="82" y="12"/>
                    <a:pt x="87" y="9"/>
                    <a:pt x="112" y="16"/>
                  </a:cubicBezTo>
                  <a:cubicBezTo>
                    <a:pt x="120" y="38"/>
                    <a:pt x="129" y="42"/>
                    <a:pt x="151" y="50"/>
                  </a:cubicBezTo>
                  <a:cubicBezTo>
                    <a:pt x="177" y="33"/>
                    <a:pt x="201" y="9"/>
                    <a:pt x="230" y="0"/>
                  </a:cubicBezTo>
                  <a:cubicBezTo>
                    <a:pt x="237" y="10"/>
                    <a:pt x="246" y="18"/>
                    <a:pt x="252" y="28"/>
                  </a:cubicBezTo>
                  <a:cubicBezTo>
                    <a:pt x="255" y="33"/>
                    <a:pt x="254" y="40"/>
                    <a:pt x="258" y="44"/>
                  </a:cubicBezTo>
                  <a:cubicBezTo>
                    <a:pt x="262" y="48"/>
                    <a:pt x="274" y="50"/>
                    <a:pt x="274" y="5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96325"/>
          <p:cNvGrpSpPr/>
          <p:nvPr/>
        </p:nvGrpSpPr>
        <p:grpSpPr>
          <a:xfrm>
            <a:off x="2825640" y="711360"/>
            <a:ext cx="90360" cy="3060000"/>
            <a:chOff x="2825640" y="711360"/>
            <a:chExt cx="90360" cy="3060000"/>
          </a:xfrm>
        </p:grpSpPr>
        <p:grpSp>
          <p:nvGrpSpPr>
            <p:cNvPr id="106" name=""/>
            <p:cNvGrpSpPr/>
            <p:nvPr/>
          </p:nvGrpSpPr>
          <p:grpSpPr>
            <a:xfrm>
              <a:off x="2906280" y="711360"/>
              <a:ext cx="360" cy="2784960"/>
              <a:chOff x="2906280" y="711360"/>
              <a:chExt cx="360" cy="2784960"/>
            </a:xfrm>
          </p:grpSpPr>
          <p:sp>
            <p:nvSpPr>
              <p:cNvPr id="107" name="直接连接符 96326"/>
              <p:cNvSpPr/>
              <p:nvPr/>
            </p:nvSpPr>
            <p:spPr>
              <a:xfrm flipV="1">
                <a:off x="2906640" y="711360"/>
                <a:ext cx="0" cy="278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 txBox="1"/>
              <p:nvPr/>
            </p:nvSpPr>
            <p:spPr>
              <a:xfrm rot="10800000">
                <a:off x="2906280" y="711360"/>
                <a:ext cx="360" cy="2784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任意多边形 96327"/>
            <p:cNvSpPr/>
            <p:nvPr/>
          </p:nvSpPr>
          <p:spPr>
            <a:xfrm rot="16200000">
              <a:off x="2733120" y="3588480"/>
              <a:ext cx="275400" cy="90360"/>
            </a:xfrm>
            <a:custGeom>
              <a:avLst/>
              <a:gdLst/>
              <a:ahLst/>
              <a:rect l="l" t="t" r="r" b="b"/>
              <a:pathLst>
                <a:path w="274" h="56">
                  <a:moveTo>
                    <a:pt x="0" y="56"/>
                  </a:moveTo>
                  <a:cubicBezTo>
                    <a:pt x="22" y="48"/>
                    <a:pt x="45" y="41"/>
                    <a:pt x="67" y="33"/>
                  </a:cubicBezTo>
                  <a:cubicBezTo>
                    <a:pt x="82" y="12"/>
                    <a:pt x="87" y="9"/>
                    <a:pt x="112" y="16"/>
                  </a:cubicBezTo>
                  <a:cubicBezTo>
                    <a:pt x="120" y="38"/>
                    <a:pt x="129" y="42"/>
                    <a:pt x="151" y="50"/>
                  </a:cubicBezTo>
                  <a:cubicBezTo>
                    <a:pt x="177" y="33"/>
                    <a:pt x="201" y="9"/>
                    <a:pt x="230" y="0"/>
                  </a:cubicBezTo>
                  <a:cubicBezTo>
                    <a:pt x="237" y="10"/>
                    <a:pt x="246" y="18"/>
                    <a:pt x="252" y="28"/>
                  </a:cubicBezTo>
                  <a:cubicBezTo>
                    <a:pt x="255" y="33"/>
                    <a:pt x="254" y="40"/>
                    <a:pt x="258" y="44"/>
                  </a:cubicBezTo>
                  <a:cubicBezTo>
                    <a:pt x="262" y="48"/>
                    <a:pt x="274" y="50"/>
                    <a:pt x="274" y="5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306600" y="979560"/>
            <a:ext cx="59040" cy="2774880"/>
            <a:chOff x="3306600" y="979560"/>
            <a:chExt cx="59040" cy="2774880"/>
          </a:xfrm>
        </p:grpSpPr>
        <p:sp>
          <p:nvSpPr>
            <p:cNvPr id="111" name="直接连接符 96328"/>
            <p:cNvSpPr/>
            <p:nvPr/>
          </p:nvSpPr>
          <p:spPr>
            <a:xfrm flipV="1">
              <a:off x="3306600" y="979560"/>
              <a:ext cx="59040" cy="27748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 rot="16200000">
              <a:off x="1948680" y="2337480"/>
              <a:ext cx="2774880" cy="59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916360" y="2962440"/>
            <a:ext cx="3149640" cy="360"/>
            <a:chOff x="2916360" y="2962440"/>
            <a:chExt cx="3149640" cy="360"/>
          </a:xfrm>
        </p:grpSpPr>
        <p:sp>
          <p:nvSpPr>
            <p:cNvPr id="114" name="直接连接符 96329"/>
            <p:cNvSpPr/>
            <p:nvPr/>
          </p:nvSpPr>
          <p:spPr>
            <a:xfrm>
              <a:off x="2916360" y="2962440"/>
              <a:ext cx="3149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2916360" y="2962440"/>
              <a:ext cx="314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916360" y="2781360"/>
            <a:ext cx="3149640" cy="360"/>
            <a:chOff x="2916360" y="2781360"/>
            <a:chExt cx="3149640" cy="360"/>
          </a:xfrm>
        </p:grpSpPr>
        <p:sp>
          <p:nvSpPr>
            <p:cNvPr id="117" name="直接连接符 96330"/>
            <p:cNvSpPr/>
            <p:nvPr/>
          </p:nvSpPr>
          <p:spPr>
            <a:xfrm>
              <a:off x="2916360" y="2781360"/>
              <a:ext cx="3149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2916360" y="2781360"/>
              <a:ext cx="314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916360" y="2602080"/>
            <a:ext cx="3149640" cy="360"/>
            <a:chOff x="2916360" y="2602080"/>
            <a:chExt cx="3149640" cy="360"/>
          </a:xfrm>
        </p:grpSpPr>
        <p:sp>
          <p:nvSpPr>
            <p:cNvPr id="120" name="直接连接符 96331"/>
            <p:cNvSpPr/>
            <p:nvPr/>
          </p:nvSpPr>
          <p:spPr>
            <a:xfrm>
              <a:off x="2916360" y="2602080"/>
              <a:ext cx="3149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2916360" y="2602080"/>
              <a:ext cx="314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916360" y="2422440"/>
            <a:ext cx="3149640" cy="360"/>
            <a:chOff x="2916360" y="2422440"/>
            <a:chExt cx="3149640" cy="360"/>
          </a:xfrm>
        </p:grpSpPr>
        <p:sp>
          <p:nvSpPr>
            <p:cNvPr id="123" name="直接连接符 96332"/>
            <p:cNvSpPr/>
            <p:nvPr/>
          </p:nvSpPr>
          <p:spPr>
            <a:xfrm>
              <a:off x="2916360" y="2422440"/>
              <a:ext cx="3149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2916360" y="2422440"/>
              <a:ext cx="314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916360" y="2241720"/>
            <a:ext cx="3149640" cy="360"/>
            <a:chOff x="2916360" y="2241720"/>
            <a:chExt cx="3149640" cy="360"/>
          </a:xfrm>
        </p:grpSpPr>
        <p:sp>
          <p:nvSpPr>
            <p:cNvPr id="126" name="直接连接符 96333"/>
            <p:cNvSpPr/>
            <p:nvPr/>
          </p:nvSpPr>
          <p:spPr>
            <a:xfrm>
              <a:off x="2916360" y="2241720"/>
              <a:ext cx="3149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2916360" y="2241720"/>
              <a:ext cx="314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916360" y="2062080"/>
            <a:ext cx="3149640" cy="360"/>
            <a:chOff x="2916360" y="2062080"/>
            <a:chExt cx="3149640" cy="360"/>
          </a:xfrm>
        </p:grpSpPr>
        <p:sp>
          <p:nvSpPr>
            <p:cNvPr id="129" name="直接连接符 96334"/>
            <p:cNvSpPr/>
            <p:nvPr/>
          </p:nvSpPr>
          <p:spPr>
            <a:xfrm>
              <a:off x="2916360" y="2062080"/>
              <a:ext cx="3149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2916360" y="2062080"/>
              <a:ext cx="314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916360" y="1881360"/>
            <a:ext cx="3149640" cy="360"/>
            <a:chOff x="2916360" y="1881360"/>
            <a:chExt cx="3149640" cy="360"/>
          </a:xfrm>
        </p:grpSpPr>
        <p:sp>
          <p:nvSpPr>
            <p:cNvPr id="132" name="直接连接符 96335"/>
            <p:cNvSpPr/>
            <p:nvPr/>
          </p:nvSpPr>
          <p:spPr>
            <a:xfrm>
              <a:off x="2916360" y="1881360"/>
              <a:ext cx="3149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2916360" y="1881360"/>
              <a:ext cx="314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916360" y="1701720"/>
            <a:ext cx="3149640" cy="360"/>
            <a:chOff x="2916360" y="1701720"/>
            <a:chExt cx="3149640" cy="360"/>
          </a:xfrm>
        </p:grpSpPr>
        <p:sp>
          <p:nvSpPr>
            <p:cNvPr id="135" name="直接连接符 96336"/>
            <p:cNvSpPr/>
            <p:nvPr/>
          </p:nvSpPr>
          <p:spPr>
            <a:xfrm>
              <a:off x="2916360" y="1701720"/>
              <a:ext cx="3149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2916360" y="1701720"/>
              <a:ext cx="314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916360" y="1521000"/>
            <a:ext cx="3149640" cy="360"/>
            <a:chOff x="2916360" y="1521000"/>
            <a:chExt cx="3149640" cy="360"/>
          </a:xfrm>
        </p:grpSpPr>
        <p:sp>
          <p:nvSpPr>
            <p:cNvPr id="138" name="直接连接符 96337"/>
            <p:cNvSpPr/>
            <p:nvPr/>
          </p:nvSpPr>
          <p:spPr>
            <a:xfrm>
              <a:off x="2916360" y="1521000"/>
              <a:ext cx="3149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2916360" y="1521000"/>
              <a:ext cx="314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916360" y="1341360"/>
            <a:ext cx="3149640" cy="360"/>
            <a:chOff x="2916360" y="1341360"/>
            <a:chExt cx="3149640" cy="360"/>
          </a:xfrm>
        </p:grpSpPr>
        <p:sp>
          <p:nvSpPr>
            <p:cNvPr id="141" name="直接连接符 96338"/>
            <p:cNvSpPr/>
            <p:nvPr/>
          </p:nvSpPr>
          <p:spPr>
            <a:xfrm>
              <a:off x="2916360" y="1341360"/>
              <a:ext cx="3149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2916360" y="1341360"/>
              <a:ext cx="314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916360" y="1162080"/>
            <a:ext cx="3149640" cy="360"/>
            <a:chOff x="2916360" y="1162080"/>
            <a:chExt cx="3149640" cy="360"/>
          </a:xfrm>
        </p:grpSpPr>
        <p:sp>
          <p:nvSpPr>
            <p:cNvPr id="144" name="直接连接符 96339"/>
            <p:cNvSpPr/>
            <p:nvPr/>
          </p:nvSpPr>
          <p:spPr>
            <a:xfrm>
              <a:off x="2916360" y="1162080"/>
              <a:ext cx="3149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2916360" y="1162080"/>
              <a:ext cx="314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916360" y="981000"/>
            <a:ext cx="3149640" cy="360"/>
            <a:chOff x="2916360" y="981000"/>
            <a:chExt cx="3149640" cy="360"/>
          </a:xfrm>
        </p:grpSpPr>
        <p:sp>
          <p:nvSpPr>
            <p:cNvPr id="147" name="直接连接符 96340"/>
            <p:cNvSpPr/>
            <p:nvPr/>
          </p:nvSpPr>
          <p:spPr>
            <a:xfrm>
              <a:off x="2916360" y="981000"/>
              <a:ext cx="3149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2916360" y="981000"/>
              <a:ext cx="314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816000" y="980640"/>
            <a:ext cx="360" cy="2784960"/>
            <a:chOff x="3816000" y="980640"/>
            <a:chExt cx="360" cy="2784960"/>
          </a:xfrm>
        </p:grpSpPr>
        <p:sp>
          <p:nvSpPr>
            <p:cNvPr id="150" name="直接连接符 96341"/>
            <p:cNvSpPr/>
            <p:nvPr/>
          </p:nvSpPr>
          <p:spPr>
            <a:xfrm flipV="1">
              <a:off x="3816360" y="980640"/>
              <a:ext cx="0" cy="27846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 rot="5400000">
              <a:off x="2423520" y="2373120"/>
              <a:ext cx="2784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262040" y="977400"/>
            <a:ext cx="33480" cy="2784960"/>
            <a:chOff x="4262040" y="977400"/>
            <a:chExt cx="33480" cy="2784960"/>
          </a:xfrm>
        </p:grpSpPr>
        <p:sp>
          <p:nvSpPr>
            <p:cNvPr id="153" name="直接连接符 96342"/>
            <p:cNvSpPr/>
            <p:nvPr/>
          </p:nvSpPr>
          <p:spPr>
            <a:xfrm flipH="1" flipV="1">
              <a:off x="4262040" y="977400"/>
              <a:ext cx="33480" cy="27846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 rot="5400000">
              <a:off x="2886120" y="2353320"/>
              <a:ext cx="2784600" cy="33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712760" y="977400"/>
            <a:ext cx="33480" cy="2784960"/>
            <a:chOff x="4712760" y="977400"/>
            <a:chExt cx="33480" cy="2784960"/>
          </a:xfrm>
        </p:grpSpPr>
        <p:sp>
          <p:nvSpPr>
            <p:cNvPr id="156" name="直接连接符 96343"/>
            <p:cNvSpPr/>
            <p:nvPr/>
          </p:nvSpPr>
          <p:spPr>
            <a:xfrm flipH="1" flipV="1">
              <a:off x="4712760" y="977400"/>
              <a:ext cx="33480" cy="27846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 rot="5400000">
              <a:off x="3337200" y="2353320"/>
              <a:ext cx="2784600" cy="33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163840" y="979560"/>
            <a:ext cx="34920" cy="2784240"/>
            <a:chOff x="5163840" y="979560"/>
            <a:chExt cx="34920" cy="2784240"/>
          </a:xfrm>
        </p:grpSpPr>
        <p:sp>
          <p:nvSpPr>
            <p:cNvPr id="159" name="直接连接符 96344"/>
            <p:cNvSpPr/>
            <p:nvPr/>
          </p:nvSpPr>
          <p:spPr>
            <a:xfrm flipH="1" flipV="1">
              <a:off x="5163840" y="979560"/>
              <a:ext cx="34920" cy="27842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 rot="5400000">
              <a:off x="3789000" y="2354040"/>
              <a:ext cx="2784240" cy="3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614560" y="979560"/>
            <a:ext cx="34920" cy="2784240"/>
            <a:chOff x="5614560" y="979560"/>
            <a:chExt cx="34920" cy="2784240"/>
          </a:xfrm>
        </p:grpSpPr>
        <p:sp>
          <p:nvSpPr>
            <p:cNvPr id="162" name="直接连接符 96345"/>
            <p:cNvSpPr/>
            <p:nvPr/>
          </p:nvSpPr>
          <p:spPr>
            <a:xfrm flipH="1" flipV="1">
              <a:off x="5614560" y="979560"/>
              <a:ext cx="34920" cy="27842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 rot="5400000">
              <a:off x="4239720" y="2354040"/>
              <a:ext cx="2784240" cy="3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062760" y="977400"/>
            <a:ext cx="33120" cy="2784960"/>
            <a:chOff x="6062760" y="977400"/>
            <a:chExt cx="33120" cy="2784960"/>
          </a:xfrm>
        </p:grpSpPr>
        <p:sp>
          <p:nvSpPr>
            <p:cNvPr id="165" name="直接连接符 96346"/>
            <p:cNvSpPr/>
            <p:nvPr/>
          </p:nvSpPr>
          <p:spPr>
            <a:xfrm flipH="1" flipV="1">
              <a:off x="6062760" y="977400"/>
              <a:ext cx="33120" cy="27846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 rot="5400000">
              <a:off x="4686840" y="2353320"/>
              <a:ext cx="2784600" cy="33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文本框 96347"/>
          <p:cNvSpPr/>
          <p:nvPr/>
        </p:nvSpPr>
        <p:spPr>
          <a:xfrm>
            <a:off x="4086360" y="377208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96348"/>
          <p:cNvSpPr/>
          <p:nvPr/>
        </p:nvSpPr>
        <p:spPr>
          <a:xfrm>
            <a:off x="4986360" y="377208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96349"/>
          <p:cNvSpPr/>
          <p:nvPr/>
        </p:nvSpPr>
        <p:spPr>
          <a:xfrm>
            <a:off x="4537080" y="377208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96350"/>
          <p:cNvSpPr/>
          <p:nvPr/>
        </p:nvSpPr>
        <p:spPr>
          <a:xfrm>
            <a:off x="3095640" y="377208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96351"/>
          <p:cNvSpPr/>
          <p:nvPr/>
        </p:nvSpPr>
        <p:spPr>
          <a:xfrm>
            <a:off x="3637080" y="377208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96352"/>
          <p:cNvSpPr/>
          <p:nvPr/>
        </p:nvSpPr>
        <p:spPr>
          <a:xfrm>
            <a:off x="5886360" y="3772080"/>
            <a:ext cx="5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96353"/>
          <p:cNvSpPr/>
          <p:nvPr/>
        </p:nvSpPr>
        <p:spPr>
          <a:xfrm>
            <a:off x="5435640" y="377208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96354"/>
          <p:cNvSpPr/>
          <p:nvPr/>
        </p:nvSpPr>
        <p:spPr>
          <a:xfrm>
            <a:off x="2957400" y="450720"/>
            <a:ext cx="11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96355"/>
          <p:cNvSpPr/>
          <p:nvPr/>
        </p:nvSpPr>
        <p:spPr>
          <a:xfrm>
            <a:off x="6335640" y="3772080"/>
            <a:ext cx="13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厘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椭圆 96356"/>
          <p:cNvSpPr/>
          <p:nvPr/>
        </p:nvSpPr>
        <p:spPr>
          <a:xfrm>
            <a:off x="3781440" y="2549520"/>
            <a:ext cx="88920" cy="9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椭圆 96357"/>
          <p:cNvSpPr/>
          <p:nvPr/>
        </p:nvSpPr>
        <p:spPr>
          <a:xfrm>
            <a:off x="4245120" y="2178000"/>
            <a:ext cx="88920" cy="9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椭圆 96358"/>
          <p:cNvSpPr/>
          <p:nvPr/>
        </p:nvSpPr>
        <p:spPr>
          <a:xfrm>
            <a:off x="4695840" y="1830240"/>
            <a:ext cx="88920" cy="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椭圆 96359"/>
          <p:cNvSpPr/>
          <p:nvPr/>
        </p:nvSpPr>
        <p:spPr>
          <a:xfrm>
            <a:off x="5132520" y="1469880"/>
            <a:ext cx="88920" cy="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33280" y="1149480"/>
            <a:ext cx="2700720" cy="2171520"/>
            <a:chOff x="2933280" y="1149480"/>
            <a:chExt cx="2700720" cy="2171520"/>
          </a:xfrm>
        </p:grpSpPr>
        <p:sp>
          <p:nvSpPr>
            <p:cNvPr id="181" name="直接连接符 96360"/>
            <p:cNvSpPr/>
            <p:nvPr/>
          </p:nvSpPr>
          <p:spPr>
            <a:xfrm flipV="1">
              <a:off x="2933640" y="1149480"/>
              <a:ext cx="2700360" cy="21715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 rot="10800000">
              <a:off x="2933280" y="1149120"/>
              <a:ext cx="2700360" cy="217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文本框 96363"/>
          <p:cNvSpPr/>
          <p:nvPr/>
        </p:nvSpPr>
        <p:spPr>
          <a:xfrm>
            <a:off x="900000" y="432900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据说篮球巨人姚明的鞋子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1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那么你知道他穿多大码的鞋子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96364"/>
          <p:cNvSpPr/>
          <p:nvPr/>
        </p:nvSpPr>
        <p:spPr>
          <a:xfrm>
            <a:off x="3309840" y="5661000"/>
            <a:ext cx="25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码，你是怎么判断的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96365"/>
          <p:cNvSpPr/>
          <p:nvPr/>
        </p:nvSpPr>
        <p:spPr>
          <a:xfrm>
            <a:off x="2411280" y="364500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标题 29697"/>
          <p:cNvSpPr/>
          <p:nvPr/>
        </p:nvSpPr>
        <p:spPr>
          <a:xfrm>
            <a:off x="1103400" y="1952640"/>
            <a:ext cx="69260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9999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269999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公司与销售人员签订了这样的工资合同：工资由两部分组成，一部分是基本工资，每人每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；另一部分是按月销售量确定的奖励工资，每销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件产品，奖励工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占位符 29698"/>
          <p:cNvSpPr/>
          <p:nvPr/>
        </p:nvSpPr>
        <p:spPr>
          <a:xfrm>
            <a:off x="1103400" y="3824280"/>
            <a:ext cx="692604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设某销售员销售产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件，他应得的工资记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关系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29699"/>
          <p:cNvSpPr/>
          <p:nvPr/>
        </p:nvSpPr>
        <p:spPr>
          <a:xfrm>
            <a:off x="1176480" y="5041800"/>
            <a:ext cx="20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10x+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组合 6147"/>
          <p:cNvGrpSpPr/>
          <p:nvPr/>
        </p:nvGrpSpPr>
        <p:grpSpPr>
          <a:xfrm>
            <a:off x="325440" y="246240"/>
            <a:ext cx="2693880" cy="805320"/>
            <a:chOff x="325440" y="246240"/>
            <a:chExt cx="2693880" cy="805320"/>
          </a:xfrm>
        </p:grpSpPr>
        <p:sp>
          <p:nvSpPr>
            <p:cNvPr id="191" name="矩形 7"/>
            <p:cNvSpPr/>
            <p:nvPr/>
          </p:nvSpPr>
          <p:spPr>
            <a:xfrm>
              <a:off x="885240" y="246240"/>
              <a:ext cx="167256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任意多边形 16"/>
            <p:cNvSpPr/>
            <p:nvPr/>
          </p:nvSpPr>
          <p:spPr>
            <a:xfrm>
              <a:off x="325440" y="5346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文本框 6151"/>
            <p:cNvSpPr/>
            <p:nvPr/>
          </p:nvSpPr>
          <p:spPr>
            <a:xfrm>
              <a:off x="2483640" y="5202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简单的一次函数的应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文本框 6152"/>
            <p:cNvSpPr/>
            <p:nvPr/>
          </p:nvSpPr>
          <p:spPr>
            <a:xfrm>
              <a:off x="325440" y="533880"/>
              <a:ext cx="5536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圆角矩形 31"/>
          <p:cNvSpPr/>
          <p:nvPr/>
        </p:nvSpPr>
        <p:spPr>
          <a:xfrm>
            <a:off x="501480" y="1289160"/>
            <a:ext cx="119232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文本框 29700"/>
          <p:cNvSpPr/>
          <p:nvPr/>
        </p:nvSpPr>
        <p:spPr>
          <a:xfrm>
            <a:off x="816120" y="673200"/>
            <a:ext cx="725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求出的函数关系式，解决下列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某销售员的工资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，他这个月销售了多少件产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29702"/>
          <p:cNvSpPr/>
          <p:nvPr/>
        </p:nvSpPr>
        <p:spPr>
          <a:xfrm>
            <a:off x="1547640" y="2448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当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410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100=10x+3000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=1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29703"/>
          <p:cNvSpPr/>
          <p:nvPr/>
        </p:nvSpPr>
        <p:spPr>
          <a:xfrm>
            <a:off x="857160" y="3622680"/>
            <a:ext cx="722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要使月工资超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5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，该月的销售量应当超过多少件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29704"/>
          <p:cNvSpPr/>
          <p:nvPr/>
        </p:nvSpPr>
        <p:spPr>
          <a:xfrm>
            <a:off x="1547640" y="479916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由题意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0x+300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＞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500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＞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5"/>
          <p:cNvSpPr/>
          <p:nvPr/>
        </p:nvSpPr>
        <p:spPr>
          <a:xfrm>
            <a:off x="1168560" y="1494000"/>
            <a:ext cx="60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1527120" y="1422360"/>
            <a:ext cx="31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826920" y="330120"/>
            <a:ext cx="715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9999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269999"/>
                </a:solidFill>
                <a:latin typeface="Times New Roman"/>
                <a:ea typeface="黑体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种称量体重的台秤，最大称量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称体重时，体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 ㎏ ）与指针按顺时针方向转过的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(°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有如下一些对应数值：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26920" y="2171880"/>
          <a:ext cx="6985080" cy="1049040"/>
        </p:xfrm>
        <a:graphic>
          <a:graphicData uri="http://schemas.openxmlformats.org/drawingml/2006/table">
            <a:tbl>
              <a:tblPr/>
              <a:tblGrid>
                <a:gridCol w="1165320"/>
                <a:gridCol w="1162080"/>
                <a:gridCol w="1164960"/>
                <a:gridCol w="1165320"/>
                <a:gridCol w="1162080"/>
                <a:gridCol w="1165320"/>
              </a:tblGrid>
              <a:tr h="531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x/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y/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文本框 3130"/>
          <p:cNvSpPr/>
          <p:nvPr/>
        </p:nvSpPr>
        <p:spPr>
          <a:xfrm>
            <a:off x="843120" y="3222720"/>
            <a:ext cx="725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直角坐标系中，分别以上表中的每对对应数值为横坐标和纵坐标，描点连线，画出图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2"/>
          <p:cNvSpPr/>
          <p:nvPr/>
        </p:nvSpPr>
        <p:spPr>
          <a:xfrm>
            <a:off x="841320" y="4311720"/>
            <a:ext cx="72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关系式，并指出自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取值范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3"/>
          <p:cNvSpPr/>
          <p:nvPr/>
        </p:nvSpPr>
        <p:spPr>
          <a:xfrm>
            <a:off x="820800" y="5302080"/>
            <a:ext cx="787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体重为多少千克时，台秤的指针恰好转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度的位置？当体重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千克时，台秤的指针转过的角度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直接连接符 33793"/>
          <p:cNvSpPr/>
          <p:nvPr/>
        </p:nvSpPr>
        <p:spPr>
          <a:xfrm>
            <a:off x="1819440" y="6165720"/>
            <a:ext cx="3747960" cy="18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直接连接符 33794"/>
          <p:cNvSpPr/>
          <p:nvPr/>
        </p:nvSpPr>
        <p:spPr>
          <a:xfrm flipH="1" flipV="1">
            <a:off x="1806480" y="3040200"/>
            <a:ext cx="28800" cy="31255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33798"/>
          <p:cNvSpPr/>
          <p:nvPr/>
        </p:nvSpPr>
        <p:spPr>
          <a:xfrm flipV="1">
            <a:off x="4716360" y="602100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33801"/>
          <p:cNvSpPr/>
          <p:nvPr/>
        </p:nvSpPr>
        <p:spPr>
          <a:xfrm flipV="1">
            <a:off x="4140360" y="602100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33802"/>
          <p:cNvSpPr/>
          <p:nvPr/>
        </p:nvSpPr>
        <p:spPr>
          <a:xfrm flipV="1">
            <a:off x="4427640" y="602100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33804"/>
          <p:cNvSpPr/>
          <p:nvPr/>
        </p:nvSpPr>
        <p:spPr>
          <a:xfrm flipV="1">
            <a:off x="2987640" y="602100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33805"/>
          <p:cNvSpPr/>
          <p:nvPr/>
        </p:nvSpPr>
        <p:spPr>
          <a:xfrm flipV="1">
            <a:off x="3564000" y="602100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33806"/>
          <p:cNvSpPr/>
          <p:nvPr/>
        </p:nvSpPr>
        <p:spPr>
          <a:xfrm flipV="1">
            <a:off x="3851280" y="602100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直接连接符 33807"/>
          <p:cNvSpPr/>
          <p:nvPr/>
        </p:nvSpPr>
        <p:spPr>
          <a:xfrm flipV="1">
            <a:off x="2411280" y="602100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接连接符 33808"/>
          <p:cNvSpPr/>
          <p:nvPr/>
        </p:nvSpPr>
        <p:spPr>
          <a:xfrm flipV="1">
            <a:off x="2700360" y="602100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接连接符 33809"/>
          <p:cNvSpPr/>
          <p:nvPr/>
        </p:nvSpPr>
        <p:spPr>
          <a:xfrm flipV="1">
            <a:off x="3276720" y="602100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33812"/>
          <p:cNvSpPr/>
          <p:nvPr/>
        </p:nvSpPr>
        <p:spPr>
          <a:xfrm flipV="1">
            <a:off x="2124000" y="602100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33813"/>
          <p:cNvSpPr/>
          <p:nvPr/>
        </p:nvSpPr>
        <p:spPr>
          <a:xfrm>
            <a:off x="1819440" y="389556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接连接符 33814"/>
          <p:cNvSpPr/>
          <p:nvPr/>
        </p:nvSpPr>
        <p:spPr>
          <a:xfrm>
            <a:off x="1819440" y="414828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接连接符 33815"/>
          <p:cNvSpPr/>
          <p:nvPr/>
        </p:nvSpPr>
        <p:spPr>
          <a:xfrm>
            <a:off x="1819440" y="465300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33816"/>
          <p:cNvSpPr/>
          <p:nvPr/>
        </p:nvSpPr>
        <p:spPr>
          <a:xfrm>
            <a:off x="1835280" y="515772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33817"/>
          <p:cNvSpPr/>
          <p:nvPr/>
        </p:nvSpPr>
        <p:spPr>
          <a:xfrm>
            <a:off x="1835280" y="566100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接连接符 33818"/>
          <p:cNvSpPr/>
          <p:nvPr/>
        </p:nvSpPr>
        <p:spPr>
          <a:xfrm>
            <a:off x="1819440" y="440064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33819"/>
          <p:cNvSpPr/>
          <p:nvPr/>
        </p:nvSpPr>
        <p:spPr>
          <a:xfrm>
            <a:off x="1819440" y="492588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33820"/>
          <p:cNvSpPr/>
          <p:nvPr/>
        </p:nvSpPr>
        <p:spPr>
          <a:xfrm>
            <a:off x="1835280" y="5411880"/>
            <a:ext cx="1458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33821"/>
          <p:cNvSpPr/>
          <p:nvPr/>
        </p:nvSpPr>
        <p:spPr>
          <a:xfrm>
            <a:off x="1835280" y="593100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33825"/>
          <p:cNvSpPr/>
          <p:nvPr/>
        </p:nvSpPr>
        <p:spPr>
          <a:xfrm>
            <a:off x="1819440" y="364320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33826"/>
          <p:cNvSpPr/>
          <p:nvPr/>
        </p:nvSpPr>
        <p:spPr>
          <a:xfrm>
            <a:off x="5298480" y="59292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  <a:ea typeface="黑体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33827"/>
          <p:cNvSpPr/>
          <p:nvPr/>
        </p:nvSpPr>
        <p:spPr>
          <a:xfrm>
            <a:off x="1455120" y="272556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  <a:ea typeface="黑体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33828"/>
          <p:cNvSpPr/>
          <p:nvPr/>
        </p:nvSpPr>
        <p:spPr>
          <a:xfrm>
            <a:off x="1476360" y="5878440"/>
            <a:ext cx="4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  <a:ea typeface="黑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33829"/>
          <p:cNvSpPr/>
          <p:nvPr/>
        </p:nvSpPr>
        <p:spPr>
          <a:xfrm>
            <a:off x="2197800" y="59720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  <a:ea typeface="黑体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33830"/>
          <p:cNvSpPr/>
          <p:nvPr/>
        </p:nvSpPr>
        <p:spPr>
          <a:xfrm>
            <a:off x="2772360" y="59720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  <a:ea typeface="黑体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33831"/>
          <p:cNvSpPr/>
          <p:nvPr/>
        </p:nvSpPr>
        <p:spPr>
          <a:xfrm>
            <a:off x="3348720" y="59720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  <a:ea typeface="黑体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33832"/>
          <p:cNvSpPr/>
          <p:nvPr/>
        </p:nvSpPr>
        <p:spPr>
          <a:xfrm>
            <a:off x="3925080" y="59720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  <a:ea typeface="黑体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33833"/>
          <p:cNvSpPr/>
          <p:nvPr/>
        </p:nvSpPr>
        <p:spPr>
          <a:xfrm>
            <a:off x="4514040" y="59720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  <a:ea typeface="黑体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33835"/>
          <p:cNvSpPr/>
          <p:nvPr/>
        </p:nvSpPr>
        <p:spPr>
          <a:xfrm>
            <a:off x="1362960" y="52689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  <a:ea typeface="黑体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33836"/>
          <p:cNvSpPr/>
          <p:nvPr/>
        </p:nvSpPr>
        <p:spPr>
          <a:xfrm>
            <a:off x="1196280" y="37609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  <a:ea typeface="黑体"/>
              </a:rPr>
              <a:t>1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33838"/>
          <p:cNvSpPr/>
          <p:nvPr/>
        </p:nvSpPr>
        <p:spPr>
          <a:xfrm>
            <a:off x="1348560" y="47721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  <a:ea typeface="黑体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33839"/>
          <p:cNvSpPr/>
          <p:nvPr/>
        </p:nvSpPr>
        <p:spPr>
          <a:xfrm>
            <a:off x="1214640" y="42609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  <a:ea typeface="黑体"/>
              </a:rPr>
              <a:t>1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直接连接符 33844"/>
          <p:cNvSpPr/>
          <p:nvPr/>
        </p:nvSpPr>
        <p:spPr>
          <a:xfrm>
            <a:off x="1806480" y="4148280"/>
            <a:ext cx="2909880" cy="0"/>
          </a:xfrm>
          <a:prstGeom prst="line">
            <a:avLst/>
          </a:prstGeom>
          <a:ln cap="rnd" w="3240">
            <a:solidFill>
              <a:srgbClr val="ff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33845"/>
          <p:cNvSpPr/>
          <p:nvPr/>
        </p:nvSpPr>
        <p:spPr>
          <a:xfrm>
            <a:off x="1825560" y="4653000"/>
            <a:ext cx="2892600" cy="0"/>
          </a:xfrm>
          <a:prstGeom prst="line">
            <a:avLst/>
          </a:prstGeom>
          <a:ln cap="rnd" w="3240">
            <a:solidFill>
              <a:srgbClr val="ff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33846"/>
          <p:cNvSpPr/>
          <p:nvPr/>
        </p:nvSpPr>
        <p:spPr>
          <a:xfrm>
            <a:off x="1854360" y="5157720"/>
            <a:ext cx="2862000" cy="0"/>
          </a:xfrm>
          <a:prstGeom prst="line">
            <a:avLst/>
          </a:prstGeom>
          <a:ln cap="rnd" w="3240">
            <a:solidFill>
              <a:srgbClr val="ff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33847"/>
          <p:cNvSpPr/>
          <p:nvPr/>
        </p:nvSpPr>
        <p:spPr>
          <a:xfrm>
            <a:off x="1819440" y="5661000"/>
            <a:ext cx="2898720" cy="0"/>
          </a:xfrm>
          <a:prstGeom prst="line">
            <a:avLst/>
          </a:prstGeom>
          <a:ln cap="rnd" w="3240">
            <a:solidFill>
              <a:srgbClr val="ff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33852"/>
          <p:cNvSpPr/>
          <p:nvPr/>
        </p:nvSpPr>
        <p:spPr>
          <a:xfrm>
            <a:off x="2411280" y="3643200"/>
            <a:ext cx="1800" cy="2514600"/>
          </a:xfrm>
          <a:prstGeom prst="line">
            <a:avLst/>
          </a:prstGeom>
          <a:ln cap="rnd" w="3240">
            <a:solidFill>
              <a:srgbClr val="ff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33853"/>
          <p:cNvSpPr/>
          <p:nvPr/>
        </p:nvSpPr>
        <p:spPr>
          <a:xfrm flipH="1">
            <a:off x="2987280" y="3637080"/>
            <a:ext cx="1800" cy="2520720"/>
          </a:xfrm>
          <a:prstGeom prst="line">
            <a:avLst/>
          </a:prstGeom>
          <a:ln cap="rnd" w="3240">
            <a:solidFill>
              <a:srgbClr val="ff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接连接符 33854"/>
          <p:cNvSpPr/>
          <p:nvPr/>
        </p:nvSpPr>
        <p:spPr>
          <a:xfrm>
            <a:off x="3564000" y="3676680"/>
            <a:ext cx="1440" cy="2481120"/>
          </a:xfrm>
          <a:prstGeom prst="line">
            <a:avLst/>
          </a:prstGeom>
          <a:ln cap="rnd" w="3240">
            <a:solidFill>
              <a:srgbClr val="ff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33855"/>
          <p:cNvSpPr/>
          <p:nvPr/>
        </p:nvSpPr>
        <p:spPr>
          <a:xfrm>
            <a:off x="4140360" y="3637080"/>
            <a:ext cx="0" cy="2520720"/>
          </a:xfrm>
          <a:prstGeom prst="line">
            <a:avLst/>
          </a:prstGeom>
          <a:ln cap="rnd" w="3240">
            <a:solidFill>
              <a:srgbClr val="ff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33860"/>
          <p:cNvSpPr/>
          <p:nvPr/>
        </p:nvSpPr>
        <p:spPr>
          <a:xfrm>
            <a:off x="1523880" y="4572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33861"/>
          <p:cNvSpPr/>
          <p:nvPr/>
        </p:nvSpPr>
        <p:spPr>
          <a:xfrm flipV="1">
            <a:off x="1844640" y="3776760"/>
            <a:ext cx="2736720" cy="2365200"/>
          </a:xfrm>
          <a:prstGeom prst="line">
            <a:avLst/>
          </a:prstGeom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33863"/>
          <p:cNvSpPr/>
          <p:nvPr/>
        </p:nvSpPr>
        <p:spPr>
          <a:xfrm>
            <a:off x="898560" y="392040"/>
            <a:ext cx="679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直角坐标系中，分别以上表中的每对对应数值为横坐标和纵坐标，描点连线，画出图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33864"/>
          <p:cNvSpPr/>
          <p:nvPr/>
        </p:nvSpPr>
        <p:spPr>
          <a:xfrm flipH="1">
            <a:off x="1823760" y="5661000"/>
            <a:ext cx="58716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接连接符 33871"/>
          <p:cNvSpPr/>
          <p:nvPr/>
        </p:nvSpPr>
        <p:spPr>
          <a:xfrm flipV="1">
            <a:off x="2411280" y="5660640"/>
            <a:ext cx="0" cy="49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928800" y="1643040"/>
          <a:ext cx="6686280" cy="1279440"/>
        </p:xfrm>
        <a:graphic>
          <a:graphicData uri="http://schemas.openxmlformats.org/drawingml/2006/table">
            <a:tbl>
              <a:tblPr/>
              <a:tblGrid>
                <a:gridCol w="1056960"/>
                <a:gridCol w="1128600"/>
                <a:gridCol w="1123920"/>
                <a:gridCol w="1125720"/>
                <a:gridCol w="1125360"/>
                <a:gridCol w="11257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x/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y/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直接连接符 33904"/>
          <p:cNvSpPr/>
          <p:nvPr/>
        </p:nvSpPr>
        <p:spPr>
          <a:xfrm>
            <a:off x="4427640" y="3895560"/>
            <a:ext cx="34920" cy="84240"/>
          </a:xfrm>
          <a:prstGeom prst="line">
            <a:avLst/>
          </a:prstGeom>
          <a:ln cap="rnd" w="3240">
            <a:solidFill>
              <a:srgbClr val="ff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33909"/>
          <p:cNvSpPr/>
          <p:nvPr/>
        </p:nvSpPr>
        <p:spPr>
          <a:xfrm>
            <a:off x="4572000" y="3979800"/>
            <a:ext cx="0" cy="0"/>
          </a:xfrm>
          <a:prstGeom prst="line">
            <a:avLst/>
          </a:prstGeom>
          <a:ln cap="rnd" w="3240">
            <a:solidFill>
              <a:srgbClr val="ff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直接连接符 33915"/>
          <p:cNvSpPr/>
          <p:nvPr/>
        </p:nvSpPr>
        <p:spPr>
          <a:xfrm flipH="1">
            <a:off x="3814560" y="4400640"/>
            <a:ext cx="36360" cy="0"/>
          </a:xfrm>
          <a:prstGeom prst="line">
            <a:avLst/>
          </a:prstGeom>
          <a:ln cap="rnd" w="3240">
            <a:solidFill>
              <a:srgbClr val="ff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接连接符 33916"/>
          <p:cNvSpPr/>
          <p:nvPr/>
        </p:nvSpPr>
        <p:spPr>
          <a:xfrm>
            <a:off x="3814920" y="4508640"/>
            <a:ext cx="0" cy="0"/>
          </a:xfrm>
          <a:prstGeom prst="line">
            <a:avLst/>
          </a:prstGeom>
          <a:ln cap="rnd" w="3240">
            <a:solidFill>
              <a:srgbClr val="ff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椭圆 3"/>
          <p:cNvSpPr/>
          <p:nvPr/>
        </p:nvSpPr>
        <p:spPr>
          <a:xfrm>
            <a:off x="2374920" y="5635800"/>
            <a:ext cx="76320" cy="74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椭圆 4"/>
          <p:cNvSpPr/>
          <p:nvPr/>
        </p:nvSpPr>
        <p:spPr>
          <a:xfrm>
            <a:off x="3397320" y="4724280"/>
            <a:ext cx="74520" cy="74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椭圆 5"/>
          <p:cNvSpPr/>
          <p:nvPr/>
        </p:nvSpPr>
        <p:spPr>
          <a:xfrm>
            <a:off x="3962520" y="4235400"/>
            <a:ext cx="7596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椭圆 6"/>
          <p:cNvSpPr/>
          <p:nvPr/>
        </p:nvSpPr>
        <p:spPr>
          <a:xfrm>
            <a:off x="4102200" y="4113360"/>
            <a:ext cx="7596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椭圆 7"/>
          <p:cNvSpPr/>
          <p:nvPr/>
        </p:nvSpPr>
        <p:spPr>
          <a:xfrm>
            <a:off x="1797120" y="6121440"/>
            <a:ext cx="75960" cy="74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文本框 3131"/>
          <p:cNvSpPr/>
          <p:nvPr/>
        </p:nvSpPr>
        <p:spPr>
          <a:xfrm>
            <a:off x="914400" y="1009800"/>
            <a:ext cx="716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关系式，并指出自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取值范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标题 34817"/>
          <p:cNvSpPr/>
          <p:nvPr/>
        </p:nvSpPr>
        <p:spPr>
          <a:xfrm>
            <a:off x="977760" y="2114640"/>
            <a:ext cx="7321680" cy="22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分析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由表格给出的数据可以看出，每增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千克，台秤的指针按顺时针方向旋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度，所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正比例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1"/>
          <p:cNvSpPr/>
          <p:nvPr/>
        </p:nvSpPr>
        <p:spPr>
          <a:xfrm>
            <a:off x="1800000" y="418464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根据条件可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12/5x(0≤x≤1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2:52:05Z</dcterms:created>
  <dc:creator> </dc:creator>
  <dc:description> </dc:description>
  <dc:language>en-US</dc:language>
  <cp:lastModifiedBy>Administrator</cp:lastModifiedBy>
  <dcterms:modified xsi:type="dcterms:W3CDTF">2018-12-29T02:52:26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